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nior.dubuque.k12.ia.us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6705720" cy="11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Tips, Tricks and Tasty Tidbits</a:t>
            </a:r>
            <a:br>
              <a:rPr sz="32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IWLA Conference 2013</a:t>
            </a:r>
            <a:br>
              <a:rPr sz="3200"/>
            </a:b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hanie Prine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nish Teach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ld Language Content Lead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ubuque Senior High Schoo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ubuque, Iow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—Random Grammar 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ra mi, para ti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Ven di sal haz ten ve pon se (Vin Disel has ten weapons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r Di Haz Ve Pon Sal Se Ten Ven– To the tune of “She’ll Be Comin’ ‘Round the Mountain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ve Ud. And Uds. Up in the chart so all the “yous” are togeth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257800" y="4038480"/>
          <a:ext cx="2971800" cy="2417760"/>
        </p:xfrm>
        <a:graphic>
          <a:graphicData uri="http://schemas.openxmlformats.org/drawingml/2006/table">
            <a:tbl>
              <a:tblPr/>
              <a:tblGrid>
                <a:gridCol w="1254240"/>
                <a:gridCol w="1717560"/>
              </a:tblGrid>
              <a:tr h="8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f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Ud.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a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Uds. 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a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– El preterito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eterit Rhyme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-Snaps and Ripple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ntastic Prezi for preterit grouping---by Sarah Ruiz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1111"/>
                </a:solidFill>
                <a:uFillTx/>
                <a:latin typeface="Arial"/>
              </a:rPr>
              <a:t>http://prezi.com/f_wayvxelvwb/?utm_campaign=share&amp;utm_medium=copy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15920"/>
            <a:ext cx="8591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asty Tidbit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Kahoot– my newest obess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76480" y="2514240"/>
            <a:ext cx="764352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Super fun trivia game– it’s like a high tech whiteboard review game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Create questions with multiple choice questions that students answer on smart devices. (They LOVE it!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www.getkahoot.com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Example:</a:t>
            </a:r>
            <a:r>
              <a:rPr b="0" lang="en-US" sz="2800" spc="-1" strike="noStrike" u="sng">
                <a:solidFill>
                  <a:srgbClr val="111111"/>
                </a:solidFill>
                <a:uFillTx/>
                <a:latin typeface="Arial"/>
              </a:rPr>
              <a:t>https://play.kahoot.it/#/k/041443da-6023-4975-a9cf-f756309e14ed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asty tidbits are what spice up your classroom!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ames are a great way to reinforce topics from class, particularly those that have to do with vocabulary and gramma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re’s a list of what we do to spice it up at Dubuque Senio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razy Fly Swatter Gam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Go Fish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Memory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abla la palabra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ic tac to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adder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hispa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raneo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oilet Charade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luff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ira un sei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Snail Gam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Examples of these can all be found under the IWLA tab at www.sraprine.wikispaces.com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ore Tasty Tidbi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ome awesome and super tasty tidbits from IWLAs pas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Verb Squares (Regina Schantz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rcas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oommate Game (Regina Schantz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iggy Bank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stermind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re you on Pinterest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f not, get on it ASAP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re are TONS of amazing ideas to keep things extra spicy in your classroom!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ttp://www.pinterest.com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ake your classroom “Pintresting”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my “low tech” pintrest board in my classroom. (Idea stolen from Jason Noble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11" name="Picture 1" descr="photo.JPG"/>
          <p:cNvPicPr/>
          <p:nvPr/>
        </p:nvPicPr>
        <p:blipFill>
          <a:blip r:embed="rId3"/>
          <a:stretch/>
        </p:blipFill>
        <p:spPr>
          <a:xfrm>
            <a:off x="2743200" y="2438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Questions?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hings to share?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40464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ontact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91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http://www.senior.dubuque.k12.ia.us/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ephanie Prin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prine@dbqschools.org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ww.sraprine.wikispaces.com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40464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ontact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91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senior.dubuque.k12.ia.us/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ephanie Prin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prine@dbqschools.org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ww.sraprine.wikispaces.com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ip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ny of these tips and tricks are really gimmicks that help build your classroom community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y build rapport between you and your students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ally, these are just some classroom management strategies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9120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Listos, listos!-- ¡Sí estamos listos!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Prrrrrrróximo!– r rolling contest first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ávate las manos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lé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Qué lástima!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 me diga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9120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imme an ooooo…..ahhhhh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peating vocab words with funny inflections: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rprise, question, feeling sick, tired, excited, British accent, etc..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ussian accent for incorrect gramma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e) You go to house white?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ke bad words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acapuntas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racas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ufanda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ick whatever words are funny to YOU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Kids buy what YOU sel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lauso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 golf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uav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uert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ento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 los pi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 un circul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 fuegos artificial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a tu compañero…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1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cod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a rodilla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5 arriba y abaj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puño con una explosión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tc…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rick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21:19:33Z</dcterms:created>
  <dc:creator>rockaitisr</dc:creator>
  <dc:description/>
  <dc:language>en-US</dc:language>
  <cp:lastModifiedBy>Prine, Stephanie</cp:lastModifiedBy>
  <cp:lastPrinted>2013-10-09T20:29:33Z</cp:lastPrinted>
  <dcterms:modified xsi:type="dcterms:W3CDTF">2014-10-07T16:19:38Z</dcterms:modified>
  <cp:revision>194</cp:revision>
  <dc:subject/>
  <dc:title>60 Treats for Your Bag of Tri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CDF0FE39D892947B3E733C6E3BB7278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